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77640" y="3984840"/>
            <a:ext cx="708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8960" y="167652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77640" y="398484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08960" y="398484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22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73800" y="1676520"/>
            <a:ext cx="22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9960" y="1676520"/>
            <a:ext cx="22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77640" y="3984840"/>
            <a:ext cx="22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73800" y="3984840"/>
            <a:ext cx="22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9960" y="3984840"/>
            <a:ext cx="22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34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08960" y="1676520"/>
            <a:ext cx="34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77640" y="3805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8960" y="1676520"/>
            <a:ext cx="34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77640" y="398484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34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8960" y="167652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8960" y="398484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8960" y="1676520"/>
            <a:ext cx="3458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77640" y="3984840"/>
            <a:ext cx="708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7640" y="2514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llisions using separating-axis t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"/>
          <p:cNvSpPr/>
          <p:nvPr/>
        </p:nvSpPr>
        <p:spPr>
          <a:xfrm>
            <a:off x="1278000" y="41911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rister Eric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ny Computer Entertainment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Slides @ http://realtimecollisiondetection.net/pubs/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 frag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6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GetInterval(Object o, Vector axis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&amp;min, float &amp;max) {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 = max = Dot(axis, o.getVertex(0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, n = o.NumVertices(); i &lt; n; i++) {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alue = Dot(axis, o.getVertex(i)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 = Min(min, value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 = Max(max, value)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xes to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t which axes to tes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mplification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al only wit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polytop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vex hulls of finite point se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lanar fa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xes to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ndwavingly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ok at the ways A and B can come into contac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 3D, reduces to vertex-face and edge-edge contac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rtex-fac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a face normal from either polytope will serve as a separating axi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dge-edg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the cross product of an edge from each will suffic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xes to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oretically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ider the Minkowski difference C of A and B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n A and B disjoint, origin outside C, specifically outside some face F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ces of C come from A, from B, or from sweeping the faces of either along the edges of the oth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Black"/>
              </a:rPr>
              <a:t>Therefore the face normal of F is either from A, from B, or the cross product of an edge from eith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xes to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 axes for two 2D OBB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4886280" y="4200480"/>
            <a:ext cx="1371600" cy="790560"/>
          </a:xfrm>
          <a:prstGeom prst="rect">
            <a:avLst/>
          </a:pr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95" name=""/>
          <p:cNvSpPr/>
          <p:nvPr/>
        </p:nvSpPr>
        <p:spPr>
          <a:xfrm rot="19947000">
            <a:off x="3666960" y="3295800"/>
            <a:ext cx="1543320" cy="828360"/>
          </a:xfrm>
          <a:prstGeom prst="rect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96" name=""/>
          <p:cNvSpPr/>
          <p:nvPr/>
        </p:nvSpPr>
        <p:spPr>
          <a:xfrm>
            <a:off x="3448080" y="5457960"/>
            <a:ext cx="32004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97" name=""/>
          <p:cNvSpPr/>
          <p:nvPr/>
        </p:nvSpPr>
        <p:spPr>
          <a:xfrm>
            <a:off x="6896160" y="2724120"/>
            <a:ext cx="0" cy="26575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98" name=""/>
          <p:cNvSpPr/>
          <p:nvPr/>
        </p:nvSpPr>
        <p:spPr>
          <a:xfrm>
            <a:off x="2381400" y="4038480"/>
            <a:ext cx="1333440" cy="24955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962440" y="2209320"/>
            <a:ext cx="2876400" cy="1476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419640" y="2685960"/>
            <a:ext cx="1428480" cy="74304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962520" y="2448000"/>
            <a:ext cx="1447560" cy="74304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2" name=""/>
          <p:cNvSpPr/>
          <p:nvPr/>
        </p:nvSpPr>
        <p:spPr>
          <a:xfrm>
            <a:off x="2457360" y="4219560"/>
            <a:ext cx="409680" cy="76212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3" name=""/>
          <p:cNvSpPr/>
          <p:nvPr/>
        </p:nvSpPr>
        <p:spPr>
          <a:xfrm>
            <a:off x="3000240" y="5172120"/>
            <a:ext cx="648000" cy="120024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4" name=""/>
          <p:cNvSpPr/>
          <p:nvPr/>
        </p:nvSpPr>
        <p:spPr>
          <a:xfrm>
            <a:off x="3543480" y="5467320"/>
            <a:ext cx="1771560" cy="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5" name=""/>
          <p:cNvSpPr/>
          <p:nvPr/>
        </p:nvSpPr>
        <p:spPr>
          <a:xfrm>
            <a:off x="4867200" y="5438880"/>
            <a:ext cx="1390680" cy="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05520" y="2962080"/>
            <a:ext cx="0" cy="148572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77080" y="4191120"/>
            <a:ext cx="0" cy="79056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447920" y="1676520"/>
          <a:ext cx="7086600" cy="3894120"/>
        </p:xfrm>
        <a:graphic>
          <a:graphicData uri="http://schemas.openxmlformats.org/drawingml/2006/table">
            <a:tbl>
              <a:tblPr/>
              <a:tblGrid>
                <a:gridCol w="2286000"/>
                <a:gridCol w="1218960"/>
                <a:gridCol w="1219320"/>
                <a:gridCol w="1371600"/>
                <a:gridCol w="990720"/>
              </a:tblGrid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D Ob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ace dirs (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ace dirs (B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dge dirs (AxB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gment–T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gment–O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ABB–AA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(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(3x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BB–O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–T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–O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DIN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xes to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33400" y="3181320"/>
            <a:ext cx="6953400" cy="1047960"/>
          </a:xfrm>
          <a:prstGeom prst="rect">
            <a:avLst/>
          </a:prstGeom>
          <a:solidFill>
            <a:srgbClr val="cc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11" name=""/>
          <p:cNvSpPr/>
          <p:nvPr/>
        </p:nvSpPr>
        <p:spPr>
          <a:xfrm>
            <a:off x="1733400" y="4257720"/>
            <a:ext cx="6953400" cy="14479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12" name=""/>
          <p:cNvSpPr/>
          <p:nvPr/>
        </p:nvSpPr>
        <p:spPr>
          <a:xfrm>
            <a:off x="1743120" y="2104920"/>
            <a:ext cx="6953040" cy="1047960"/>
          </a:xfrm>
          <a:prstGeom prst="rect">
            <a:avLst/>
          </a:prstGeom>
          <a:solidFill>
            <a:srgbClr val="cce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 frag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 TestIntersection(Object o1, Object o2) {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loat min1, max1, min2, max2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nt i = 0, n = o1.NumFaceDirs(), i &lt; n; i++) {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Interval(o1, o1.GetFaceDir(i), min1, max1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Interval(o2, o1.GetFaceDir(i), min2, max2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max1 &lt; min2 || max2 &lt; min1) return false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nt i = 0, n = o2.NumFaceDirs(), i &lt; n; i++) {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Interval(o1, o2.GetFaceDir(i), min1, max1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Interval(o2, o2.GetFaceDir(i), min2, max2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max1 &lt; min2 || max2 &lt; min1) return false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nt i = 0, m = o1.NumEdgeDirs(), i &lt; m; i++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nt j = 0, n = o2.NumEdgeDirs(), j &lt; n; j++) {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ctor axis = Cross(o1.GetEdgeDir(i), o2.GetEdgeDir(j)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Interval(o1, axis, min1, max1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Interval(o2, axis, min2, max2)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max1 &lt; min2 || max2 &lt; min1) return false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ving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objects move, projected intervals mov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586728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18" name=""/>
          <p:cNvSpPr/>
          <p:nvPr/>
        </p:nvSpPr>
        <p:spPr>
          <a:xfrm>
            <a:off x="2085840" y="5867280"/>
            <a:ext cx="1914840" cy="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19" name=""/>
          <p:cNvSpPr/>
          <p:nvPr/>
        </p:nvSpPr>
        <p:spPr>
          <a:xfrm>
            <a:off x="4486320" y="5867280"/>
            <a:ext cx="1380960" cy="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752480" y="27432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21" name=""/>
          <p:cNvSpPr/>
          <p:nvPr/>
        </p:nvSpPr>
        <p:spPr>
          <a:xfrm>
            <a:off x="4514760" y="4952880"/>
            <a:ext cx="1324080" cy="790560"/>
          </a:xfrm>
          <a:prstGeom prst="rect">
            <a:avLst/>
          </a:pr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22" name=""/>
          <p:cNvSpPr/>
          <p:nvPr/>
        </p:nvSpPr>
        <p:spPr>
          <a:xfrm>
            <a:off x="2114640" y="4572000"/>
            <a:ext cx="1847880" cy="990720"/>
          </a:xfrm>
          <a:prstGeom prst="rect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757520" y="4929120"/>
            <a:ext cx="0" cy="82872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757520" y="4548240"/>
            <a:ext cx="0" cy="103824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1.11111E-006 L 0.17083 1.11111E-006 E">
                                      <p:cBhvr>
                                        <p:cTn id="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-4.44444E-006 L 0.17187 -4.44444E-006 E">
                                      <p:cBhvr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5E-006 -2.22222E-006 L 2.5E-006 -0.22592 E">
                                      <p:cBhvr>
                                        <p:cTn id="1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66667E-006 -2.22222E-006 L 0.25122 -0.22754 E">
                                      <p:cBhvr>
                                        <p:cTn id="1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ving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bjects intersect when projections overlap on all ax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bjects are in contact over the interva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[ma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{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}, mi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{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la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}]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, wher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re time of first and last contact on axi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 contact i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{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} &gt; mi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{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la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ving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mization 1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ider relative movement onl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rink interval A to point, growing interval B by original width of 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comes moving point vs. stationary interval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mization 2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it as soon a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{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} &gt; mi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{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la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termine if two (convex) objects are intersecting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ssibly also obtain contact inform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 rot="17929800">
            <a:off x="2669760" y="3867120"/>
            <a:ext cx="1295280" cy="161280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886200"/>
            <a:ext cx="1123920" cy="1467000"/>
          </a:xfrm>
          <a:custGeom>
            <a:avLst/>
            <a:gdLst/>
            <a:ahLst/>
            <a:rect l="l" t="t" r="r" b="b"/>
            <a:pathLst>
              <a:path w="708" h="924">
                <a:moveTo>
                  <a:pt x="6" y="90"/>
                </a:moveTo>
                <a:lnTo>
                  <a:pt x="630" y="0"/>
                </a:lnTo>
                <a:lnTo>
                  <a:pt x="708" y="576"/>
                </a:lnTo>
                <a:lnTo>
                  <a:pt x="228" y="924"/>
                </a:lnTo>
                <a:lnTo>
                  <a:pt x="0" y="792"/>
                </a:lnTo>
                <a:lnTo>
                  <a:pt x="6" y="90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45" name=""/>
          <p:cNvSpPr/>
          <p:nvPr/>
        </p:nvSpPr>
        <p:spPr>
          <a:xfrm>
            <a:off x="2095560" y="4962600"/>
            <a:ext cx="111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01960" y="4416480"/>
          <a:ext cx="25560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960" y="441648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179880" y="4502160"/>
          <a:ext cx="255600" cy="2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9880" y="450216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rot="17929800">
            <a:off x="6622920" y="3866760"/>
            <a:ext cx="1295280" cy="161316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51" name=""/>
          <p:cNvSpPr/>
          <p:nvPr/>
        </p:nvSpPr>
        <p:spPr>
          <a:xfrm>
            <a:off x="5629320" y="3886200"/>
            <a:ext cx="1123920" cy="1467000"/>
          </a:xfrm>
          <a:custGeom>
            <a:avLst/>
            <a:gdLst/>
            <a:ahLst/>
            <a:rect l="l" t="t" r="r" b="b"/>
            <a:pathLst>
              <a:path w="708" h="924">
                <a:moveTo>
                  <a:pt x="6" y="90"/>
                </a:moveTo>
                <a:lnTo>
                  <a:pt x="630" y="0"/>
                </a:lnTo>
                <a:lnTo>
                  <a:pt x="708" y="576"/>
                </a:lnTo>
                <a:lnTo>
                  <a:pt x="228" y="924"/>
                </a:lnTo>
                <a:lnTo>
                  <a:pt x="0" y="792"/>
                </a:lnTo>
                <a:lnTo>
                  <a:pt x="6" y="90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52" name=""/>
          <p:cNvSpPr/>
          <p:nvPr/>
        </p:nvSpPr>
        <p:spPr>
          <a:xfrm>
            <a:off x="6048360" y="4962600"/>
            <a:ext cx="11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54760" y="4416480"/>
          <a:ext cx="255600" cy="2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4760" y="441648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132680" y="4502160"/>
          <a:ext cx="255600" cy="25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2680" y="450216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191120" y="4397400"/>
            <a:ext cx="1257120" cy="98280"/>
          </a:xfrm>
          <a:custGeom>
            <a:avLst/>
            <a:gdLst/>
            <a:ahLst/>
            <a:rect l="l" t="t" r="r" b="b"/>
            <a:pathLst>
              <a:path w="792" h="62">
                <a:moveTo>
                  <a:pt x="0" y="50"/>
                </a:moveTo>
                <a:cubicBezTo>
                  <a:pt x="58" y="43"/>
                  <a:pt x="216" y="0"/>
                  <a:pt x="348" y="2"/>
                </a:cubicBezTo>
                <a:cubicBezTo>
                  <a:pt x="480" y="4"/>
                  <a:pt x="700" y="50"/>
                  <a:pt x="792" y="62"/>
                </a:cubicBezTo>
              </a:path>
            </a:pathLst>
          </a:custGeom>
          <a:noFill/>
          <a:ln w="14292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npolyhedral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heres, capsules, cylinders, cones, etc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.g. sphere vs. OBB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2552760" y="3797280"/>
            <a:ext cx="1550880" cy="155088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32" name=""/>
          <p:cNvSpPr/>
          <p:nvPr/>
        </p:nvSpPr>
        <p:spPr>
          <a:xfrm rot="20836800">
            <a:off x="4913280" y="3559320"/>
            <a:ext cx="2057400" cy="1247760"/>
          </a:xfrm>
          <a:prstGeom prst="rect">
            <a:avLst/>
          </a:prstGeom>
          <a:solidFill>
            <a:srgbClr val="336699">
              <a:alpha val="50000"/>
            </a:srgbClr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990800" y="3498480"/>
            <a:ext cx="5848200" cy="1352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324240" y="4184280"/>
            <a:ext cx="1565280" cy="361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638600" y="4417560"/>
            <a:ext cx="177840" cy="993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36" name=""/>
          <p:cNvSpPr/>
          <p:nvPr/>
        </p:nvSpPr>
        <p:spPr>
          <a:xfrm>
            <a:off x="3519360" y="5407200"/>
            <a:ext cx="29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est point on OBB to sphere center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908800" y="3665160"/>
            <a:ext cx="3607200" cy="2261520"/>
            <a:chOff x="2908800" y="3665160"/>
            <a:chExt cx="3607200" cy="2261520"/>
          </a:xfrm>
        </p:grpSpPr>
        <p:sp>
          <p:nvSpPr>
            <p:cNvPr id="238" name=""/>
            <p:cNvSpPr/>
            <p:nvPr/>
          </p:nvSpPr>
          <p:spPr>
            <a:xfrm rot="20635800">
              <a:off x="3073680" y="4374360"/>
              <a:ext cx="1387800" cy="13874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DIN-Light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635800">
              <a:off x="4962960" y="3830040"/>
              <a:ext cx="1388160" cy="13874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DIN-Light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635800">
              <a:off x="3745800" y="4096080"/>
              <a:ext cx="1975320" cy="1387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DIN-Light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635800">
              <a:off x="3737160" y="4098600"/>
              <a:ext cx="1975320" cy="1387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DIN-Light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npolyhedral ob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psule test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lit into three featu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axes that can separate features of capsule and features of second objec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bustness war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ross product of edges can result in zero-v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3244680"/>
            <a:ext cx="70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Dot(foo, axis) &gt; Dot(bar, axis)) return false;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426708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epsilon1 &gt; epsilon2) return false;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2666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ypical test:</a:t>
            </a: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733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comes, due to floating-point errors:</a:t>
            </a: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7242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ults in:</a:t>
            </a: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Black"/>
              </a:rPr>
              <a:t>Chaos!</a:t>
            </a: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act deter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vered by Erin Catto (lat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56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icson, Christer.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Real-Time Collision Detectio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 Morgan Kaufmann 2005.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realtimecollisiondetection.net/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evine, Ron. “Collisions of moving objects.”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gdalgorithms-lis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mailing list article, November 14, 2000.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realtimecollisiondetection.net/files/levine_swept_sat.tx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yd, Stephen. Lieven Vandenberghe.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onvex Optimizatio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 Cambridge University Press, 2004.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www.stanford.edu/~boyd/cvxbook/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ockafellar, R. Tyrrell.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onvex Analysi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  Princeton University Press, 19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lying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t C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convex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f and only if the line segment between any two points in C lies in C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2933640" y="3276720"/>
            <a:ext cx="1486080" cy="2124000"/>
          </a:xfrm>
          <a:custGeom>
            <a:avLst/>
            <a:gdLst/>
            <a:ahLst/>
            <a:rect l="l" t="t" r="r" b="b"/>
            <a:pathLst>
              <a:path w="936" h="1338">
                <a:moveTo>
                  <a:pt x="420" y="0"/>
                </a:moveTo>
                <a:lnTo>
                  <a:pt x="936" y="282"/>
                </a:lnTo>
                <a:lnTo>
                  <a:pt x="912" y="990"/>
                </a:lnTo>
                <a:lnTo>
                  <a:pt x="432" y="1338"/>
                </a:lnTo>
                <a:lnTo>
                  <a:pt x="0" y="984"/>
                </a:lnTo>
                <a:lnTo>
                  <a:pt x="420" y="0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124080"/>
            <a:ext cx="1822320" cy="2433600"/>
          </a:xfrm>
          <a:custGeom>
            <a:avLst/>
            <a:gdLst/>
            <a:ahLst/>
            <a:rect l="l" t="t" r="r" b="b"/>
            <a:pathLst>
              <a:path w="1148" h="1533">
                <a:moveTo>
                  <a:pt x="510" y="117"/>
                </a:moveTo>
                <a:cubicBezTo>
                  <a:pt x="666" y="0"/>
                  <a:pt x="980" y="150"/>
                  <a:pt x="1062" y="315"/>
                </a:cubicBezTo>
                <a:cubicBezTo>
                  <a:pt x="1148" y="423"/>
                  <a:pt x="1110" y="579"/>
                  <a:pt x="1044" y="651"/>
                </a:cubicBezTo>
                <a:cubicBezTo>
                  <a:pt x="978" y="723"/>
                  <a:pt x="678" y="621"/>
                  <a:pt x="588" y="699"/>
                </a:cubicBezTo>
                <a:cubicBezTo>
                  <a:pt x="498" y="777"/>
                  <a:pt x="514" y="827"/>
                  <a:pt x="564" y="903"/>
                </a:cubicBezTo>
                <a:cubicBezTo>
                  <a:pt x="614" y="979"/>
                  <a:pt x="840" y="1077"/>
                  <a:pt x="846" y="1263"/>
                </a:cubicBezTo>
                <a:cubicBezTo>
                  <a:pt x="852" y="1449"/>
                  <a:pt x="576" y="1533"/>
                  <a:pt x="420" y="1497"/>
                </a:cubicBezTo>
                <a:cubicBezTo>
                  <a:pt x="264" y="1461"/>
                  <a:pt x="180" y="1365"/>
                  <a:pt x="90" y="1101"/>
                </a:cubicBezTo>
                <a:cubicBezTo>
                  <a:pt x="0" y="837"/>
                  <a:pt x="354" y="234"/>
                  <a:pt x="510" y="117"/>
                </a:cubicBezTo>
                <a:close/>
              </a:path>
            </a:pathLst>
          </a:custGeom>
          <a:solidFill>
            <a:srgbClr val="ffcc00">
              <a:alpha val="50000"/>
            </a:srgbClr>
          </a:solidFill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600" y="3809880"/>
            <a:ext cx="53352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86200"/>
            <a:ext cx="38088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lying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parating Hyperplane Theore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s: two disjoi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ets are separable by a hyperplan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 rot="835200">
            <a:off x="3276720" y="4038120"/>
            <a:ext cx="1295280" cy="198144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591000"/>
            <a:ext cx="1486080" cy="2124000"/>
          </a:xfrm>
          <a:custGeom>
            <a:avLst/>
            <a:gdLst/>
            <a:ahLst/>
            <a:rect l="l" t="t" r="r" b="b"/>
            <a:pathLst>
              <a:path w="936" h="1338">
                <a:moveTo>
                  <a:pt x="420" y="0"/>
                </a:moveTo>
                <a:lnTo>
                  <a:pt x="936" y="282"/>
                </a:lnTo>
                <a:lnTo>
                  <a:pt x="912" y="990"/>
                </a:lnTo>
                <a:lnTo>
                  <a:pt x="432" y="1338"/>
                </a:lnTo>
                <a:lnTo>
                  <a:pt x="0" y="984"/>
                </a:lnTo>
                <a:lnTo>
                  <a:pt x="420" y="0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42840" y="3581280"/>
            <a:ext cx="762120" cy="2819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69" name=""/>
          <p:cNvSpPr/>
          <p:nvPr/>
        </p:nvSpPr>
        <p:spPr>
          <a:xfrm rot="835200">
            <a:off x="6629400" y="3809520"/>
            <a:ext cx="1295280" cy="198144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581280"/>
            <a:ext cx="1486080" cy="2124360"/>
          </a:xfrm>
          <a:custGeom>
            <a:avLst/>
            <a:gdLst/>
            <a:ahLst/>
            <a:rect l="l" t="t" r="r" b="b"/>
            <a:pathLst>
              <a:path w="936" h="1338">
                <a:moveTo>
                  <a:pt x="420" y="0"/>
                </a:moveTo>
                <a:lnTo>
                  <a:pt x="936" y="282"/>
                </a:lnTo>
                <a:lnTo>
                  <a:pt x="912" y="990"/>
                </a:lnTo>
                <a:lnTo>
                  <a:pt x="432" y="1338"/>
                </a:lnTo>
                <a:lnTo>
                  <a:pt x="0" y="984"/>
                </a:lnTo>
                <a:lnTo>
                  <a:pt x="420" y="0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lying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nintersect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concav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ets not generally separable by hyperplane (only by hypersurfaces)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cave objects not covered he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510000"/>
            <a:ext cx="1822320" cy="2433600"/>
          </a:xfrm>
          <a:custGeom>
            <a:avLst/>
            <a:gdLst/>
            <a:ahLst/>
            <a:rect l="l" t="t" r="r" b="b"/>
            <a:pathLst>
              <a:path w="1148" h="1533">
                <a:moveTo>
                  <a:pt x="510" y="117"/>
                </a:moveTo>
                <a:cubicBezTo>
                  <a:pt x="666" y="0"/>
                  <a:pt x="980" y="150"/>
                  <a:pt x="1062" y="315"/>
                </a:cubicBezTo>
                <a:cubicBezTo>
                  <a:pt x="1148" y="423"/>
                  <a:pt x="1110" y="579"/>
                  <a:pt x="1044" y="651"/>
                </a:cubicBezTo>
                <a:cubicBezTo>
                  <a:pt x="978" y="723"/>
                  <a:pt x="678" y="621"/>
                  <a:pt x="588" y="699"/>
                </a:cubicBezTo>
                <a:cubicBezTo>
                  <a:pt x="498" y="777"/>
                  <a:pt x="514" y="827"/>
                  <a:pt x="564" y="903"/>
                </a:cubicBezTo>
                <a:cubicBezTo>
                  <a:pt x="614" y="979"/>
                  <a:pt x="840" y="1077"/>
                  <a:pt x="846" y="1263"/>
                </a:cubicBezTo>
                <a:cubicBezTo>
                  <a:pt x="852" y="1449"/>
                  <a:pt x="576" y="1533"/>
                  <a:pt x="420" y="1497"/>
                </a:cubicBezTo>
                <a:cubicBezTo>
                  <a:pt x="264" y="1461"/>
                  <a:pt x="180" y="1365"/>
                  <a:pt x="90" y="1101"/>
                </a:cubicBezTo>
                <a:cubicBezTo>
                  <a:pt x="0" y="837"/>
                  <a:pt x="354" y="234"/>
                  <a:pt x="510" y="117"/>
                </a:cubicBez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514760"/>
            <a:ext cx="1266840" cy="1200240"/>
          </a:xfrm>
          <a:custGeom>
            <a:avLst/>
            <a:gdLst/>
            <a:ahLst/>
            <a:rect l="l" t="t" r="r" b="b"/>
            <a:pathLst>
              <a:path w="798" h="756">
                <a:moveTo>
                  <a:pt x="798" y="0"/>
                </a:moveTo>
                <a:lnTo>
                  <a:pt x="504" y="756"/>
                </a:lnTo>
                <a:lnTo>
                  <a:pt x="0" y="276"/>
                </a:lnTo>
                <a:lnTo>
                  <a:pt x="798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75" name=""/>
          <p:cNvSpPr/>
          <p:nvPr/>
        </p:nvSpPr>
        <p:spPr>
          <a:xfrm>
            <a:off x="4152960" y="3800520"/>
            <a:ext cx="1219320" cy="2486160"/>
          </a:xfrm>
          <a:custGeom>
            <a:avLst/>
            <a:gdLst/>
            <a:ahLst/>
            <a:rect l="l" t="t" r="r" b="b"/>
            <a:pathLst>
              <a:path w="768" h="1566">
                <a:moveTo>
                  <a:pt x="768" y="0"/>
                </a:moveTo>
                <a:cubicBezTo>
                  <a:pt x="728" y="59"/>
                  <a:pt x="624" y="342"/>
                  <a:pt x="504" y="468"/>
                </a:cubicBezTo>
                <a:cubicBezTo>
                  <a:pt x="384" y="594"/>
                  <a:pt x="96" y="540"/>
                  <a:pt x="48" y="636"/>
                </a:cubicBezTo>
                <a:cubicBezTo>
                  <a:pt x="0" y="732"/>
                  <a:pt x="120" y="858"/>
                  <a:pt x="174" y="924"/>
                </a:cubicBezTo>
                <a:cubicBezTo>
                  <a:pt x="228" y="990"/>
                  <a:pt x="324" y="1074"/>
                  <a:pt x="294" y="1212"/>
                </a:cubicBezTo>
                <a:cubicBezTo>
                  <a:pt x="264" y="1350"/>
                  <a:pt x="124" y="1498"/>
                  <a:pt x="114" y="1566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lying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paration w.r.t a plane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separation of the orthogonal projections onto any line L parallel to plane norm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 rot="17929800">
            <a:off x="4946400" y="3666600"/>
            <a:ext cx="1295640" cy="161280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79" name=""/>
          <p:cNvSpPr/>
          <p:nvPr/>
        </p:nvSpPr>
        <p:spPr>
          <a:xfrm>
            <a:off x="2838600" y="3895560"/>
            <a:ext cx="1342800" cy="1257480"/>
          </a:xfrm>
          <a:custGeom>
            <a:avLst/>
            <a:gdLst/>
            <a:ahLst/>
            <a:rect l="l" t="t" r="r" b="b"/>
            <a:pathLst>
              <a:path w="846" h="792">
                <a:moveTo>
                  <a:pt x="174" y="36"/>
                </a:moveTo>
                <a:lnTo>
                  <a:pt x="588" y="0"/>
                </a:lnTo>
                <a:lnTo>
                  <a:pt x="846" y="468"/>
                </a:lnTo>
                <a:lnTo>
                  <a:pt x="216" y="792"/>
                </a:lnTo>
                <a:lnTo>
                  <a:pt x="0" y="558"/>
                </a:lnTo>
                <a:lnTo>
                  <a:pt x="174" y="36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25680" y="4295880"/>
          <a:ext cx="25560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5680" y="429588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456160" y="4302000"/>
          <a:ext cx="255600" cy="2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6160" y="430200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362320" y="5699160"/>
            <a:ext cx="490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85" name=""/>
          <p:cNvSpPr/>
          <p:nvPr/>
        </p:nvSpPr>
        <p:spPr>
          <a:xfrm>
            <a:off x="4791240" y="5699160"/>
            <a:ext cx="1600200" cy="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86" name=""/>
          <p:cNvSpPr/>
          <p:nvPr/>
        </p:nvSpPr>
        <p:spPr>
          <a:xfrm>
            <a:off x="2809800" y="5699160"/>
            <a:ext cx="1381320" cy="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295880"/>
            <a:ext cx="0" cy="1593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88" name=""/>
          <p:cNvSpPr/>
          <p:nvPr/>
        </p:nvSpPr>
        <p:spPr>
          <a:xfrm>
            <a:off x="6391440" y="4619520"/>
            <a:ext cx="0" cy="1270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4657680"/>
            <a:ext cx="0" cy="1231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762440"/>
            <a:ext cx="0" cy="1127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6840" y="5438880"/>
          <a:ext cx="228600" cy="25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6840" y="5438880"/>
                    <a:ext cx="22860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495680" y="3552840"/>
            <a:ext cx="0" cy="26859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48240" y="3629160"/>
          <a:ext cx="253800" cy="25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48240" y="3629160"/>
                    <a:ext cx="25380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495680" y="389556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5572080"/>
            <a:ext cx="123840" cy="123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lying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 line for which the projection intervals do not overlap we call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separating axi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 rot="17929800">
            <a:off x="4946400" y="3666600"/>
            <a:ext cx="1295640" cy="1612800"/>
          </a:xfrm>
          <a:prstGeom prst="ellipse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01" name=""/>
          <p:cNvSpPr/>
          <p:nvPr/>
        </p:nvSpPr>
        <p:spPr>
          <a:xfrm>
            <a:off x="2838600" y="3895560"/>
            <a:ext cx="1342800" cy="1257480"/>
          </a:xfrm>
          <a:custGeom>
            <a:avLst/>
            <a:gdLst/>
            <a:ahLst/>
            <a:rect l="l" t="t" r="r" b="b"/>
            <a:pathLst>
              <a:path w="846" h="792">
                <a:moveTo>
                  <a:pt x="174" y="36"/>
                </a:moveTo>
                <a:lnTo>
                  <a:pt x="588" y="0"/>
                </a:lnTo>
                <a:lnTo>
                  <a:pt x="846" y="468"/>
                </a:lnTo>
                <a:lnTo>
                  <a:pt x="216" y="792"/>
                </a:lnTo>
                <a:lnTo>
                  <a:pt x="0" y="558"/>
                </a:lnTo>
                <a:lnTo>
                  <a:pt x="174" y="36"/>
                </a:lnTo>
                <a:close/>
              </a:path>
            </a:pathLst>
          </a:cu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25680" y="4295880"/>
          <a:ext cx="25560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5680" y="429588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56160" y="4302000"/>
          <a:ext cx="255600" cy="2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6160" y="430200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362320" y="5699160"/>
            <a:ext cx="490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07" name=""/>
          <p:cNvSpPr/>
          <p:nvPr/>
        </p:nvSpPr>
        <p:spPr>
          <a:xfrm>
            <a:off x="4791240" y="5699160"/>
            <a:ext cx="1600200" cy="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08" name=""/>
          <p:cNvSpPr/>
          <p:nvPr/>
        </p:nvSpPr>
        <p:spPr>
          <a:xfrm>
            <a:off x="2809800" y="5699160"/>
            <a:ext cx="1381320" cy="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295880"/>
            <a:ext cx="0" cy="1593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10" name=""/>
          <p:cNvSpPr/>
          <p:nvPr/>
        </p:nvSpPr>
        <p:spPr>
          <a:xfrm>
            <a:off x="6391440" y="4619520"/>
            <a:ext cx="0" cy="1270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657680"/>
            <a:ext cx="0" cy="1231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762440"/>
            <a:ext cx="0" cy="1127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6840" y="5438880"/>
          <a:ext cx="228600" cy="25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6840" y="5438880"/>
                    <a:ext cx="22860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495680" y="3552840"/>
            <a:ext cx="0" cy="26859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48240" y="3629160"/>
          <a:ext cx="253800" cy="25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48240" y="3629160"/>
                    <a:ext cx="25380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495680" y="389556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19" name=""/>
          <p:cNvSpPr/>
          <p:nvPr/>
        </p:nvSpPr>
        <p:spPr>
          <a:xfrm>
            <a:off x="4362480" y="5572080"/>
            <a:ext cx="123840" cy="123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324480" y="3032280"/>
            <a:ext cx="18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parated if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sepa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e absolute interva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956040"/>
            <a:ext cx="1371600" cy="1000080"/>
          </a:xfrm>
          <a:prstGeom prst="rect">
            <a:avLst/>
          </a:pr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4" name=""/>
          <p:cNvSpPr/>
          <p:nvPr/>
        </p:nvSpPr>
        <p:spPr>
          <a:xfrm rot="19947000">
            <a:off x="1965240" y="3041280"/>
            <a:ext cx="1542960" cy="1060560"/>
          </a:xfrm>
          <a:prstGeom prst="rect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708520"/>
            <a:ext cx="490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6" name=""/>
          <p:cNvSpPr/>
          <p:nvPr/>
        </p:nvSpPr>
        <p:spPr>
          <a:xfrm>
            <a:off x="1781280" y="5708520"/>
            <a:ext cx="1914480" cy="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7" name=""/>
          <p:cNvSpPr/>
          <p:nvPr/>
        </p:nvSpPr>
        <p:spPr>
          <a:xfrm>
            <a:off x="4181400" y="5708520"/>
            <a:ext cx="1381320" cy="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8" name=""/>
          <p:cNvSpPr/>
          <p:nvPr/>
        </p:nvSpPr>
        <p:spPr>
          <a:xfrm>
            <a:off x="1790640" y="3432240"/>
            <a:ext cx="0" cy="2628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29" name=""/>
          <p:cNvSpPr/>
          <p:nvPr/>
        </p:nvSpPr>
        <p:spPr>
          <a:xfrm>
            <a:off x="3695760" y="3679920"/>
            <a:ext cx="0" cy="23810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432320"/>
            <a:ext cx="0" cy="1628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699080"/>
            <a:ext cx="0" cy="1361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81280" y="5734080"/>
          <a:ext cx="49032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5734080"/>
                    <a:ext cx="4903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808600" y="5460840"/>
          <a:ext cx="2286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8600" y="546084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187800" y="5734080"/>
          <a:ext cx="51588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7800" y="5734080"/>
                    <a:ext cx="5158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191120" y="5734080"/>
          <a:ext cx="49032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5734080"/>
                    <a:ext cx="4903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035680" y="5734080"/>
          <a:ext cx="51588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35680" y="5734080"/>
                    <a:ext cx="5158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589120" y="3467160"/>
          <a:ext cx="255600" cy="25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89120" y="346716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808520" y="4343400"/>
          <a:ext cx="255600" cy="25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8520" y="434340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670800" y="3327480"/>
          <a:ext cx="116028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70800" y="3327480"/>
                    <a:ext cx="1160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670800" y="3870360"/>
          <a:ext cx="1160280" cy="361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70800" y="3870360"/>
                    <a:ext cx="1160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7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sepa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7640" y="1676520"/>
            <a:ext cx="725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centrally symmetric objects: compare using projected radi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989520"/>
            <a:ext cx="1371600" cy="1000080"/>
          </a:xfrm>
          <a:prstGeom prst="rect">
            <a:avLst/>
          </a:prstGeom>
          <a:solidFill>
            <a:srgbClr val="33669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3" name=""/>
          <p:cNvSpPr/>
          <p:nvPr/>
        </p:nvSpPr>
        <p:spPr>
          <a:xfrm rot="19947000">
            <a:off x="1965240" y="3074760"/>
            <a:ext cx="1542960" cy="1060200"/>
          </a:xfrm>
          <a:prstGeom prst="rect">
            <a:avLst/>
          </a:prstGeom>
          <a:solidFill>
            <a:srgbClr val="ffcc00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5742000"/>
            <a:ext cx="490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5742000"/>
            <a:ext cx="952560" cy="0"/>
          </a:xfrm>
          <a:prstGeom prst="line">
            <a:avLst/>
          </a:prstGeom>
          <a:ln w="127080">
            <a:solidFill>
              <a:srgbClr val="ff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6" name=""/>
          <p:cNvSpPr/>
          <p:nvPr/>
        </p:nvSpPr>
        <p:spPr>
          <a:xfrm>
            <a:off x="4181400" y="5742000"/>
            <a:ext cx="685800" cy="0"/>
          </a:xfrm>
          <a:prstGeom prst="line">
            <a:avLst/>
          </a:prstGeom>
          <a:ln w="127080">
            <a:solidFill>
              <a:srgbClr val="3366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7" name=""/>
          <p:cNvSpPr/>
          <p:nvPr/>
        </p:nvSpPr>
        <p:spPr>
          <a:xfrm>
            <a:off x="4819680" y="44179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8" name=""/>
          <p:cNvSpPr/>
          <p:nvPr/>
        </p:nvSpPr>
        <p:spPr>
          <a:xfrm>
            <a:off x="2685960" y="35416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3598920"/>
            <a:ext cx="2104920" cy="84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70120"/>
            <a:ext cx="0" cy="25243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1" name=""/>
          <p:cNvSpPr/>
          <p:nvPr/>
        </p:nvSpPr>
        <p:spPr>
          <a:xfrm>
            <a:off x="3695760" y="3713040"/>
            <a:ext cx="0" cy="2381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4465800"/>
            <a:ext cx="0" cy="1628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4732200"/>
            <a:ext cx="0" cy="1362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4" name=""/>
          <p:cNvSpPr/>
          <p:nvPr/>
        </p:nvSpPr>
        <p:spPr>
          <a:xfrm>
            <a:off x="2752560" y="593244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5" name=""/>
          <p:cNvSpPr/>
          <p:nvPr/>
        </p:nvSpPr>
        <p:spPr>
          <a:xfrm>
            <a:off x="2724120" y="5570640"/>
            <a:ext cx="214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5942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08240" y="3814920"/>
          <a:ext cx="25560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381492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160960" y="4567320"/>
          <a:ext cx="255600" cy="2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0960" y="4567320"/>
                    <a:ext cx="2556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376880" y="5891040"/>
          <a:ext cx="280800" cy="3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6880" y="5891040"/>
                    <a:ext cx="2808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135240" y="5872320"/>
          <a:ext cx="25884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5240" y="5872320"/>
                    <a:ext cx="2588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840120" y="3773520"/>
          <a:ext cx="20340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0120" y="3773520"/>
                    <a:ext cx="203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808600" y="5494320"/>
          <a:ext cx="22860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08600" y="54943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697200" y="5172120"/>
          <a:ext cx="45576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97200" y="5172120"/>
                    <a:ext cx="4557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324480" y="3065400"/>
            <a:ext cx="18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parated if</a:t>
            </a:r>
            <a:endParaRPr b="0" lang="en-US" sz="1800" spc="-1" strike="noStrike">
              <a:solidFill>
                <a:srgbClr val="ffffff"/>
              </a:solidFill>
              <a:latin typeface="DIN-Light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618240" y="3333600"/>
          <a:ext cx="1266840" cy="40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18240" y="3333600"/>
                    <a:ext cx="12668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22:10:32Z</dcterms:created>
  <dc:creator>Jamil Moledina</dc:creator>
  <dc:description/>
  <cp:keywords/>
  <dc:language>en-US</dc:language>
  <cp:lastModifiedBy>Preferred Customer</cp:lastModifiedBy>
  <cp:lastPrinted>1904-01-01T00:00:00Z</cp:lastPrinted>
  <dcterms:modified xsi:type="dcterms:W3CDTF">2007-02-13T17:42:21Z</dcterms:modified>
  <cp:revision>222</cp:revision>
  <dc:subject/>
  <dc:title>GDC 2005</dc:title>
</cp:coreProperties>
</file>